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EEC0-5055-4BEF-A192-0B9CA441C1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0060-FAA4-4E29-BDE1-61295B9FAA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3FD4-67C0-4153-85EA-4C88956D60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2BCA-3F74-401C-9C76-420953B9A6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08BA-33D8-4DCD-BCD5-F3CB1F974E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D5D0-282A-41A5-8E67-F68C7E17DC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4702-181D-4ACD-ACF2-AEE826EC70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C521-5DA6-4B8E-B3FE-4270D83C03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570B-B8EC-4540-8B7E-4A39483D57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71A7-2BFB-4439-A60D-71FA740F8A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9736-6F69-476A-9BFE-AF85494B6E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A135-C692-417A-8C2A-CEB87A95D6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0042-7FB1-453C-9C9B-517ABE3E6A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74FD-4053-4D7B-B1C1-C0BEDFE59B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4068-A1CC-40FB-956F-3A7091E95F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D558-62D4-49F3-9CA2-3C08F344C8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09BF-5247-41FD-AF9B-71D24E48C5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3E68-D412-45A2-9B94-9B13ACE286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FCAE-9513-4DE8-93D2-B01C4A7EFC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0395-00FF-4113-8A11-F7D883653E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ACF-96F7-48D7-A9B7-C85AED9D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E7B-4446-4B89-869E-39129D44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159-39D4-424F-9446-E7C1DCF8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A17-5B2F-4DCC-93A9-0506FD1B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249-2390-41FD-86D1-99E50F09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BD7-BC13-45C4-924E-3A89F65F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109-ACC2-45FA-A62C-6F699C99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864-A143-41D6-A62C-B60A1F92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DDF-EEE9-4B9C-A038-BE5C151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6EA-D293-4556-805A-F8D0F527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E51-C9F4-45CA-A560-633AD275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0A1-CD7F-49BD-9664-051F7A6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CECA-E91E-4CBF-A810-4038559C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68360" y="6024600"/>
          <a:ext cx="6335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024600"/>
                    <a:ext cx="633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vk.cz/rp" TargetMode="External"/><Relationship Id="rId3" Type="http://schemas.openxmlformats.org/officeDocument/2006/relationships/hyperlink" Target="http://www.mvk.cz/rp" TargetMode="External"/><Relationship Id="rId4" Type="http://schemas.openxmlformats.org/officeDocument/2006/relationships/hyperlink" Target="http://www.mvk.cz/rp" TargetMode="External"/><Relationship Id="rId5" Type="http://schemas.openxmlformats.org/officeDocument/2006/relationships/hyperlink" Target="http://www.mvk.cz/rp" TargetMode="External"/><Relationship Id="rId6" Type="http://schemas.openxmlformats.org/officeDocument/2006/relationships/hyperlink" Target="http://www.mvk.cz/rp" TargetMode="External"/><Relationship Id="rId7" Type="http://schemas.openxmlformats.org/officeDocument/2006/relationships/hyperlink" Target="http://www.mvk.cz/rp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40280" y="326880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ečná konference - dube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250920" y="5929200"/>
          <a:ext cx="705780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929200"/>
                    <a:ext cx="7057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7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4"/>
          <a:stretch/>
        </p:blipFill>
        <p:spPr>
          <a:xfrm>
            <a:off x="142920" y="3357720"/>
            <a:ext cx="1357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2009\Projekt Rovné příležitosti\září 09 PC kurz\P1010289x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2009\Projekt Rovné příležitosti\září 09 PC kurz\P1010264x.jpg"/>
          <p:cNvPicPr/>
          <p:nvPr/>
        </p:nvPicPr>
        <p:blipFill>
          <a:blip r:embed="rId3"/>
          <a:stretch/>
        </p:blipFill>
        <p:spPr>
          <a:xfrm>
            <a:off x="442908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A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 konference pro zaměstn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dotazníkové šetření pro zaměstna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x konference rodinných a mateřsk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92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ference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2009\Projekt Rovné příležitosti\09_12_02Konference AERV\fotbal a konference 170x.jpg"/>
          <p:cNvPicPr/>
          <p:nvPr/>
        </p:nvPicPr>
        <p:blipFill>
          <a:blip r:embed="rId3"/>
          <a:stretch/>
        </p:blipFill>
        <p:spPr>
          <a:xfrm>
            <a:off x="179280" y="141300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2009\Projekt Rovné příležitosti\09_12_02Konference AERV\fotbal a konference 182x.jpg"/>
          <p:cNvPicPr/>
          <p:nvPr/>
        </p:nvPicPr>
        <p:blipFill>
          <a:blip r:embed="rId4"/>
          <a:stretch/>
        </p:blipFill>
        <p:spPr>
          <a:xfrm>
            <a:off x="4356000" y="2781360"/>
            <a:ext cx="4189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7"/>
          <p:cNvSpPr/>
          <p:nvPr/>
        </p:nvSpPr>
        <p:spPr>
          <a:xfrm>
            <a:off x="61128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e mateřský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2010\PROJEKT ŽENY A MUŽI V KOMUNITNÍ KNIHOVNĚ\10_10_21KonferenceRP_DK\P1000423.JPG"/>
          <p:cNvPicPr/>
          <p:nvPr/>
        </p:nvPicPr>
        <p:blipFill>
          <a:blip r:embed="rId3"/>
          <a:stretch/>
        </p:blipFill>
        <p:spPr>
          <a:xfrm>
            <a:off x="3276720" y="191628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9828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96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lematika slaďování profesního a rodinného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ivota v povědomí veřejnosti a místní komunit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SP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ní přednáška „GENDER -  co to je za slovo a jaký má význam?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 kamp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– dobrovolníci a dobrovol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elné schůzky – příprava happeningu, výstavy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aní člán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ppening „Jsme si rovni“ na Dolní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a fotografií „Velké prádlo aneb bourání stereotyp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2010\PROJEKT ŽENY A MUŽI V KOMUNITNÍ KNIHOVNĚ\10_05_13Happening Jsme si rovni\michal fotky\1\DSC_0756x.jpg"/>
          <p:cNvPicPr/>
          <p:nvPr/>
        </p:nvPicPr>
        <p:blipFill>
          <a:blip r:embed="rId3"/>
          <a:stretch/>
        </p:blipFill>
        <p:spPr>
          <a:xfrm>
            <a:off x="3851280" y="2637000"/>
            <a:ext cx="511344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2010\PROJEKT ŽENY A MUŽI V KOMUNITNÍ KNIHOVNĚ\Týmkampaně\30.3.2010\P1020921x.jpg"/>
          <p:cNvPicPr/>
          <p:nvPr/>
        </p:nvPicPr>
        <p:blipFill>
          <a:blip r:embed="rId4"/>
          <a:stretch/>
        </p:blipFill>
        <p:spPr>
          <a:xfrm>
            <a:off x="250920" y="155736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2010\PROJEKT ŽENY A MUŽI V KOMUNITNÍ KNIHOVNĚ\10_05_13Happening Jsme si rovni\michal fotky\1\DSC_0795x.jpg"/>
          <p:cNvPicPr/>
          <p:nvPr/>
        </p:nvPicPr>
        <p:blipFill>
          <a:blip r:embed="rId3"/>
          <a:stretch/>
        </p:blipFill>
        <p:spPr>
          <a:xfrm>
            <a:off x="4284720" y="3044880"/>
            <a:ext cx="4341600" cy="290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2010\PROJEKT ŽENY A MUŽI V KOMUNITNÍ KNIHOVNĚ\10_05_13Happening Jsme si rovni\michal fotky\1\DSC_0774x.jpg"/>
          <p:cNvPicPr/>
          <p:nvPr/>
        </p:nvPicPr>
        <p:blipFill>
          <a:blip r:embed="rId4"/>
          <a:stretch/>
        </p:blipFill>
        <p:spPr>
          <a:xfrm>
            <a:off x="324000" y="1484280"/>
            <a:ext cx="3887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0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F:\2010\PROJEKT ŽENY A MUŽI V KOMUNITNÍ KNIHOVNĚ\Výstava_Aktivní otcovství\P1030803.JPG"/>
          <p:cNvPicPr/>
          <p:nvPr/>
        </p:nvPicPr>
        <p:blipFill>
          <a:blip r:embed="rId3"/>
          <a:stretch/>
        </p:blipFill>
        <p:spPr>
          <a:xfrm>
            <a:off x="179280" y="148428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392436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Aktivní otcovstv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:\2011\ROVNÉ PŘÍLEŽITOSTI_PROJEKTU ESF\Výstava Velké prádlo\IMAG0051x.jpg"/>
          <p:cNvPicPr/>
          <p:nvPr/>
        </p:nvPicPr>
        <p:blipFill>
          <a:blip r:embed="rId4"/>
          <a:stretch/>
        </p:blipFill>
        <p:spPr>
          <a:xfrm>
            <a:off x="4284720" y="3141720"/>
            <a:ext cx="4286160" cy="256680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8"/>
          <p:cNvSpPr/>
          <p:nvPr/>
        </p:nvSpPr>
        <p:spPr>
          <a:xfrm>
            <a:off x="147636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Velké prá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4920" y="18900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ánky projektu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vk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é zprávy, čl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ční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Katka\Documents\KATKA\KATKA\Ženy a muži v komunitní knihovně - projekt RP říjen 08\Publicita\Loga\symbol_rovnost_sbaleno\jpeg\logo_plnobarevne.jpg"/>
          <p:cNvPicPr/>
          <p:nvPr/>
        </p:nvPicPr>
        <p:blipFill>
          <a:blip r:embed="rId8"/>
          <a:stretch/>
        </p:blipFill>
        <p:spPr>
          <a:xfrm>
            <a:off x="3000240" y="3714840"/>
            <a:ext cx="3453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0880" y="494352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arykova veřejná knihovna Vse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7360" y="540216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v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vk@vs.inex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11280" y="5402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 412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 449 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00" y="98280"/>
            <a:ext cx="70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investič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9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ý náze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Rovné příležitosti žen a mužů v komunitní knihovně Vsetín - partnerství a zdravá komunita - celoživotní vzdělávání – prospe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oče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038.345,92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rmonogram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venec 2009 - červ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38960" y="1285920"/>
            <a:ext cx="90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pt-horní pruh logo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4840" y="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tační program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ční progra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ské zdroje a zaměstna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P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ní o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ální integrace a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ast podp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né příležitosti žen a mužů na trhu práce a sladění pracovního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79280" y="1413000"/>
            <a:ext cx="849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857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cílem projektu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za pomoci vytvoření partnerství mezi vybranými institucemi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místě ovlivnit vnímání problematiky rovných příležitostí žen a mužů v okrese Vsetí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35720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800" y="18900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ě nezaměstnané ženy - muž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odobné situaci (na MD, 5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stnavatel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768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ner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Vset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dinné a mateřské centrum Sluníčko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pro komunitní práci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entura pro ekonomický rozvoj Vsetín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á spolupráce s Úřadem práce Vsetí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53360" y="128592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osob ohrožených na trhu práce (včetně doprovodných opat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gi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azování problematiky slaďování profesního a rodinného života v povědomí veřejnosti a míst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1428480"/>
            <a:ext cx="87505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dělávání osob ohrožených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ové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atické kurzy – Ekonomické minimum, Technika administrativy, Právní minimum, Ekologie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ostní výcvik a psychosociální motivač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rovodná opatření – hlídání dětí a příspěvek na do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mi dobrá spolupráce s ÚP Vsetín i R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čn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jení, výměna zkušeností (mladé maminky, ženy ve věku 5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ěhlo 70 kurzů, ve kterých bylo proškoleno přes 60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07360" y="1285920"/>
            <a:ext cx="836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2009\Projekt Rovné příležitosti\Jazykové kurzy\P1010358x.jpg"/>
          <p:cNvPicPr/>
          <p:nvPr/>
        </p:nvPicPr>
        <p:blipFill>
          <a:blip r:embed="rId2"/>
          <a:stretch/>
        </p:blipFill>
        <p:spPr>
          <a:xfrm>
            <a:off x="142920" y="1571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2009\Projekt Rovné příležitosti\Jazykové kurzy\P1010355x.jpg"/>
          <p:cNvPicPr/>
          <p:nvPr/>
        </p:nvPicPr>
        <p:blipFill>
          <a:blip r:embed="rId3"/>
          <a:stretch/>
        </p:blipFill>
        <p:spPr>
          <a:xfrm>
            <a:off x="4429080" y="2357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40:35Z</dcterms:created>
  <dc:creator>uživatel</dc:creator>
  <dc:description/>
  <dc:language>en-US</dc:language>
  <cp:lastModifiedBy>Haisová</cp:lastModifiedBy>
  <dcterms:modified xsi:type="dcterms:W3CDTF">2011-07-25T07:05:13Z</dcterms:modified>
  <cp:revision>128</cp:revision>
  <dc:subject/>
  <dc:title>Nadpis prezentace</dc:title>
</cp:coreProperties>
</file>